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40C-37CB-4648-ABDC-0004735F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EDD-398E-45E9-9D5C-D20E182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359-3A00-47F7-A69E-174DFFC8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AC0-BECC-4E12-9361-50A38976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EBC2-AF47-4A56-B0AD-DB100093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9D4-1BA0-4C49-A433-8FD4F9B0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CEE6-4E13-4AD6-8E19-20C1598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6079-AD16-443E-BC25-FED4819D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DD3A-FAC0-4420-A437-8B23EDEF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3125-7A09-4202-B738-2F117CD6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D562-4C57-4534-BBE5-3F3AB4F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2FE-8018-4489-AA63-8A850A84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8CC0-A87C-41B1-945B-5D3BB8D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52FB-6CD4-4952-953D-C9BA6796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ED0A-A601-4116-BA32-F7089D0B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C65B-164B-4840-B7BF-FD0490EC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2B18-21E2-4852-9E73-DF2FDCFA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3789-AFD1-4515-ADFE-0217C3BD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02C2-ADF4-421A-AE90-EF76C0CD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1E62-A145-44F9-8030-CF95289C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A566-BDA8-4465-9AD9-28698B0C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8CDD-960E-405D-8400-829517F4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F2E-6BF8-4567-A644-0AD4AE74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5A3C-E2FD-448B-9754-5870F1D6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E309-3F59-4967-8D44-344974B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9DDA-49C9-4EC9-B0CF-62FA0F3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8755-F062-4170-ADA7-392DD14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DF6B-C9B1-4457-9363-1EDA9522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1B3F-D952-4786-85E2-F628C360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B971-CFED-4294-9EAB-C1D83795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5921-3009-4F35-B249-B242C9BC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D967-67E3-4ECE-84B6-CB9CE0C9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DD10D-D8EF-4D8F-A01A-287FE5E3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3AE-D3FE-4B35-AE54-C842E70F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48B5-CB5A-4C1A-B4EB-31022636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E8A26-D51A-4E6E-97D5-6A77893B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5A287-FBC1-49A0-A1EF-3B2AD12A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BD3C-2925-4E64-BD27-0829AE1D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22BB4-C40C-4127-8654-C5604A0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545F-B824-4BC6-A86B-63628F78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204AC-E764-4FE2-B990-D48E6817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7EB6-12D2-4B11-A28E-8B42B7E1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0B156-CBAC-4F00-85FE-51B7F262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D38C-5ABC-459E-84A2-629F5224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AC9-87DB-4B8C-B5DA-7E6B8BBE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613DC-3ACD-4372-9568-7B0D658A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B3357-2CFC-43B2-A34F-71E961A8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8B55-8620-41E9-AEC3-31EC75F9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3350-364A-4492-B69E-3C92B6D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1FDB-5114-4B71-98BA-3ACB83B2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5A3A6-2729-443E-B1AD-10CE9EA2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DC829-BD58-4D40-8380-E771B9C3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17AA-471D-44D8-A40B-778BDED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6B791-7172-45AB-AB23-87BEE354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C8602-17D3-4A45-8A25-43A9EDD1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EE2-7FE0-4C09-B85B-5FB1119D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75446-DEB7-436E-BC02-2C7E03E5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096E-A79B-46E9-B6B6-945555B8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B71FF-AF07-4CCD-8C6D-F74587C2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EC741-DD6F-448E-8177-0E62E4C2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3201C-B5E6-4A6F-BDF9-D7D7C732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D1BB3-5E04-481F-BE4C-38ADF8A8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D7769-B8E3-465B-9628-4B915ED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0D1B6-F711-4E77-B28A-73E3984A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C16B-5C10-49E1-A91B-DC417EF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81CDA-88AE-4B88-A4F1-978435C5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352-210F-4984-B6FA-8C24972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90433-A7A7-4260-8C30-C507F2A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531DD-CDAE-4727-B330-6A186C10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55789-C9EF-4484-AEA7-9171A19E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1862-7308-4B07-88F2-097F7913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BC058-302F-4D8E-9EB3-F2AB82E7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77EDF-197C-4966-A1A8-668A9CFE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34B75-44D2-44E1-8C2A-366AAADE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22739-F25C-4488-8DDA-A89921FD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F2349-A87C-4285-96FC-6052A44A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68513-94AE-4552-8E74-698B51C6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8F4-321C-432C-8C83-D56E2EA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1F6C-BAA6-44AD-B69B-3B23608D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0CD9-9134-434B-8C69-D1303C1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913CE-C5A0-46ED-8D4F-ED12EBBD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76A62-6076-451E-9A0E-7AB8A7A6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4E84C-1D9D-4AE9-A019-51F2CE35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99F-FAF6-4390-9D30-BBCD041B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BA6E-5D87-47EE-95F9-9AF032C510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DFFA-06A0-4B0E-94F8-D584D63BA8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87DC-79D8-4B14-B5D3-137BEB2115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5FB9-F423-4D00-B1F9-2CE0142697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3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4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3D62-3E5D-48A6-869A-C1882CF9C8B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1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1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3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8A26-8359-4341-B54C-AA7FB0154A5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E953-C4EC-4210-8519-8D2CED693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8800" spc="-1" strike="noStrike">
                <a:solidFill>
                  <a:srgbClr val="ff3300"/>
                </a:solidFill>
                <a:latin typeface="Arial"/>
              </a:rPr>
              <a:t>المهام </a:t>
            </a:r>
            <a:r>
              <a:rPr b="0" lang="ar-EG" sz="8800" spc="-1" strike="noStrike">
                <a:solidFill>
                  <a:srgbClr val="ff3300"/>
                </a:solidFill>
                <a:latin typeface="Arial"/>
                <a:cs typeface="Arial"/>
              </a:rPr>
              <a:t>المطلوبه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تقسيم الفصل الى مجموعا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عمل عرض تقديمى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  <a:cs typeface="Arial"/>
              </a:rPr>
              <a:t>عن الجهاز الهضمي في الانسا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رصد ظاهرة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  <a:cs typeface="Arial"/>
              </a:rPr>
              <a:t>انتشار الامراض المعديه مثل الاصابه بدوده الانكلستوما والاسكارس المنتشره في المناطق النائيه بسبب اهمال النظافه الشخصيه ونظافه البيئه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وضع خطة لمشروع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  <a:cs typeface="Arial"/>
              </a:rPr>
              <a:t>مواجهة امراض الجهاز الهضمي المختلفه وخاصه الناتجه اهمال النظافه الشخصيه ونظافه البيئه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3300"/>
                </a:solidFill>
                <a:latin typeface="Arial"/>
              </a:rPr>
              <a:t>مجموعة العرض التقديم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1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بحث عن مصادر فى الانترنت تدعم بها موضوع الدرس و هو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تركيب الجهاز الهضمي في الانسان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بحث عن مصادر فى الانترنت حول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ظاهرة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انتشار الامراض المعديه مثل الاصابه بدوده الانكلستوما والاسكارس المنتشره في المناطق النائيه بسبب اهمال النظافه الشخصيه ونظافه البيئه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يمكنكم الاستعانة بمدرس المادة أو أى مدرس آخر للمشورة حول عملية تنسيق و ترتيب الافكار داخل العرض التقديم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يجب ادراج المخطط البيانى الذى سيقوم به فريق متابعة مشروع لعرض نتائج مشروع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مواجهة امراض الجهاز الهضمي المختلفه خاصة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الناتجه  عن اهمال النظافه الشخصيه ونظافه البيئه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3300"/>
                </a:solidFill>
                <a:latin typeface="Arial"/>
              </a:rPr>
              <a:t>مجموعات</a:t>
            </a:r>
            <a:r>
              <a:rPr b="0" lang="ar-EG" sz="3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مشروع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  <a:cs typeface="Arial"/>
              </a:rPr>
              <a:t>مواجهة امراض الجهاز الهضمي المختلفه وخاصه الناتجه عن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  <a:ea typeface="Arial"/>
              </a:rPr>
              <a:t> اهمال الافراد للنظافه الشخصيه ونظافه البيئه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سيقوم فرد داخل كل مجموعة برصد اعداد الاشخاص الذين يعانون من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الاصابه بأي انواع الامراض المعديه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فى المجتمع المحيط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ب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سيتم تقديم نتائج البحث الى مدرس الما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سيقوم المدرس بتحديد الاعداد المستهدفة خلال العمل فى مرحلة المشرو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سيتم تسليم كل مجموعة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ال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أدوات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ea typeface="Arial"/>
              </a:rPr>
              <a:t> اللازمه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rial"/>
              </a:rPr>
              <a:t>ل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عمل المشروع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ea typeface="Arial"/>
              </a:rPr>
              <a:t> مثل الادوات المكتبيه او قوالب لعمل الاستبيانات واستطلاع الراي وغيرها من المستلز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600" spc="-1" strike="noStrike">
                <a:solidFill>
                  <a:srgbClr val="000099"/>
                </a:solidFill>
                <a:latin typeface="Arial"/>
              </a:rPr>
              <a:t>مراحل التقيي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-108000" y="1196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 u="sng">
                <a:solidFill>
                  <a:srgbClr val="ff3300"/>
                </a:solidFill>
                <a:uFillTx/>
                <a:latin typeface="Arial"/>
              </a:rPr>
              <a:t>التقييم البنائى</a:t>
            </a:r>
            <a:r>
              <a:rPr b="0" lang="ar-EG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سيتم التقييم طوال مرحة العمل فى المشروع و سيكون المسئولين عن التقييم ه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مجموعات الاخر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درسى المواد الاخر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درس المادة ( المشرف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دير المدرسة ( المشرف العام على المشروع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 u="sng">
                <a:solidFill>
                  <a:srgbClr val="ff3300"/>
                </a:solidFill>
                <a:uFillTx/>
                <a:latin typeface="Arial"/>
              </a:rPr>
              <a:t>التقييم النهائى</a:t>
            </a:r>
            <a:r>
              <a:rPr b="0" lang="ar-EG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بعد الانتهاء من المشروع لتحديد النتائج و توزيع الجوائز و شهادات التقدير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981080" y="228600"/>
            <a:ext cx="472464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مصاد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5334120" y="2362320"/>
            <a:ext cx="3429000" cy="8380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كتاب المدرسي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4920" y="2209680"/>
            <a:ext cx="4133880" cy="1143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4971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Arial"/>
              </a:rPr>
              <a:t>موسوعة العالم الصغير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376360" y="2819520"/>
            <a:ext cx="3719520" cy="15541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urveDown">
              <a:avLst>
                <a:gd name="adj" fmla="val 3197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ndalus"/>
              </a:rPr>
              <a:t>كراسة التدريبات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ndalus"/>
              <a:ea typeface="Andalus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181480" y="4343400"/>
            <a:ext cx="3524400" cy="9144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eflateBottom">
              <a:avLst>
                <a:gd name="adj" fmla="val 5331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www.photo animation.com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819520" y="5029200"/>
            <a:ext cx="3527280" cy="593640"/>
          </a:xfrm>
          <a:prstGeom prst="rect">
            <a:avLst/>
          </a:prstGeom>
        </p:spPr>
        <p:txBody>
          <a:bodyPr wrap="none" fromWordArt="1" lIns="36360" rIns="36360" tIns="36360" bIns="3636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www.yahoo.com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0880" y="4419720"/>
            <a:ext cx="3524400" cy="8380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eflateBottom">
              <a:avLst>
                <a:gd name="adj" fmla="val 6655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a00e6"/>
                </a:solidFill>
                <a:latin typeface="Impact"/>
              </a:rPr>
              <a:t>www.photos .yahoo.com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a00e6"/>
              </a:soli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692360" y="2133720"/>
            <a:ext cx="7451640" cy="2303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0000"/>
                </a:solidFill>
                <a:latin typeface="Comic Sans MS"/>
              </a:rPr>
              <a:t>ما الاشياء الضروريه لحياتك علي الارض ؟</a:t>
            </a:r>
            <a:r>
              <a:rPr b="0" lang="ar-EG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1773360"/>
            <a:ext cx="7524720" cy="4392360"/>
          </a:xfrm>
          <a:prstGeom prst="cloudCallout">
            <a:avLst>
              <a:gd name="adj1" fmla="val 18587"/>
              <a:gd name="adj2" fmla="val 55527"/>
            </a:avLst>
          </a:prstGeom>
          <a:solidFill>
            <a:srgbClr val="9900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Comic Sans MS"/>
              </a:rPr>
              <a:t>ما الذي يمدك بالطاقة لكي تعيش وتقوم بجميع الاشياء المطلوبه منك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539640" y="1413000"/>
            <a:ext cx="7417080" cy="3024000"/>
          </a:xfrm>
          <a:prstGeom prst="can">
            <a:avLst>
              <a:gd name="adj" fmla="val 2304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  <a:effectLst>
            <a:outerShdw dist="117181" dir="836163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000000"/>
                </a:solidFill>
                <a:latin typeface="Comic Sans MS"/>
              </a:rPr>
              <a:t>ما انواع الطعام الذي تأكله ؟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080" y="3222720"/>
            <a:ext cx="71629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Verdana"/>
              </a:rPr>
              <a:t>من هم المسافرين في هذه الرحلة 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4281480"/>
            <a:ext cx="8610480" cy="11001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Verdana"/>
              </a:rPr>
              <a:t>من هي الاماكن التي يمر بها المسافرين في هذه الرحلة 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5686560"/>
            <a:ext cx="8382240" cy="838080"/>
          </a:xfrm>
          <a:custGeom>
            <a:avLst/>
            <a:gdLst>
              <a:gd name="textAreaLeft" fmla="*/ 0 w 8382240"/>
              <a:gd name="textAreaRight" fmla="*/ 8382240 w 838224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Verdana"/>
              </a:rPr>
              <a:t>ما هي مستلزمات القيام بهذه الرحلة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265480"/>
            <a:ext cx="889308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Verdana"/>
              </a:rPr>
              <a:t>ما اكبر رحله ممكن ان تتم في اصغر مسافه يوميا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60360" y="1224000"/>
            <a:ext cx="7596360" cy="4076640"/>
          </a:xfrm>
          <a:prstGeom prst="downArrowCallout">
            <a:avLst>
              <a:gd name="adj1" fmla="val 37029"/>
              <a:gd name="adj2" fmla="val 43436"/>
              <a:gd name="adj3" fmla="val 23116"/>
              <a:gd name="adj4" fmla="val 53764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من خلال الرحلة التى سنقوم بها</a:t>
            </a: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omic Sans MS"/>
              </a:rPr>
              <a:t>حاول أن تجيب على الأسئلة السابقة بنفس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50920" y="2245320"/>
            <a:ext cx="828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1- </a:t>
            </a:r>
            <a:r>
              <a:rPr b="1" lang="ar-SY" sz="3200" spc="-1" strike="noStrike">
                <a:solidFill>
                  <a:srgbClr val="000000"/>
                </a:solidFill>
                <a:latin typeface="Comic Sans MS"/>
              </a:rPr>
              <a:t>لماذا سمي الجهاز الهضمي بهذا الاس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2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عرف عملية الهض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ما يتكون جهازك الهضمي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4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الفرق بين اعضاء الجهاز الهضمي والغدد الملحقه به ؟</a:t>
            </a:r>
            <a:r>
              <a:rPr b="1" i="1" lang="ar-EG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3200" spc="-1" strike="noStrike">
                <a:solidFill>
                  <a:srgbClr val="000000"/>
                </a:solidFill>
                <a:latin typeface="Comic Sans MS"/>
              </a:rPr>
              <a:t>5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قارن بين مكونات القناة الهضمية والغدد الملحقة بالقناة الهضمي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7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الفرق بين الهضم والامتصاص ؟</a:t>
            </a:r>
            <a:r>
              <a:rPr b="0" lang="ar-EG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333360"/>
            <a:ext cx="7561080" cy="2016000"/>
          </a:xfrm>
          <a:prstGeom prst="cloudCallout">
            <a:avLst>
              <a:gd name="adj1" fmla="val 18634"/>
              <a:gd name="adj2" fmla="val 30944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omic Sans MS"/>
              </a:rPr>
              <a:t>من خلال  هذه الوحده يمكنك الاجابه علي الاسئله التاليه</a:t>
            </a:r>
            <a:r>
              <a:rPr b="0" lang="ar-EG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95280" y="1456560"/>
            <a:ext cx="8064360" cy="5851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8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وظيفه كل عضو من اعضاء الجهاز الهضمي في الانس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9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كيف يمكنك الحفاظ علي جهازك الهضمي ضد الامراض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10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اسباب الاصابه بالامراض المعديه في مصر 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11- 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ما الامراض المعديه المنتشره في المناطق النائيه والعشوائيه بمصر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12- </a:t>
            </a: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كيف يمكن الحد من انتشار هذه الامراض بين الافرا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4000" y="333360"/>
            <a:ext cx="7561080" cy="1366920"/>
          </a:xfrm>
          <a:prstGeom prst="cloudCallout">
            <a:avLst>
              <a:gd name="adj1" fmla="val 18634"/>
              <a:gd name="adj2" fmla="val 9762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omic Sans MS"/>
              </a:rPr>
              <a:t>من خلال  هذه الوحده يمكنك الاجابه علي الاسئله التاليه</a:t>
            </a:r>
            <a:r>
              <a:rPr b="0" lang="ar-EG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990099">
                  <a:alpha val="64313"/>
                </a:srgbClr>
              </a:gs>
              <a:gs pos="100000">
                <a:srgbClr val="b342b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gency FB"/>
                <a:cs typeface="Arial"/>
              </a:rPr>
              <a:t>في نهايه هذه الوحده ينبغي علي الطالب ان</a:t>
            </a:r>
            <a:r>
              <a:rPr b="1" lang="ar-EG" sz="3600" spc="-1" strike="noStrike">
                <a:solidFill>
                  <a:srgbClr val="ffff00"/>
                </a:solidFill>
                <a:latin typeface="Agency FB"/>
                <a:ea typeface="Arial"/>
              </a:rPr>
              <a:t> </a:t>
            </a:r>
            <a:r>
              <a:rPr b="1" lang="ar-EG" sz="3600" spc="-1" strike="noStrike">
                <a:solidFill>
                  <a:srgbClr val="ffff00"/>
                </a:solidFill>
                <a:latin typeface="Agency FB"/>
                <a:ea typeface="Arial"/>
              </a:rPr>
              <a:t>: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1 .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تعرف الطالب علي سبب تسمية الجهاز الهضمي بهذا الاسم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2-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تعرف الطالب علي تركيب الجهاز الهضمي في الانسان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3-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تعرف الطالب علي مكونات القناة الهضمية وملحقاتها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4-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فرق الطالب بين الهضم والامتصاص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5-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ان يتعرف علي طرق المحافظة علي الجهاز الهضمي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6 –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أن يكتسب مهارة البحث في الانترنت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7 –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أن يصمم صفحة بالباور بوينت تتضمن إدراج صورة وصوت ومخطط هيكلي او تنظيمي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8 –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أن ينشئ إرتباط بين الصفحات باستخدام برنامج الناشر الالكتروني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9 –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cs typeface="Arial"/>
              </a:rPr>
              <a:t>أن يشارك الطالب مع زملائه في جماعة الصحة الوقائية لنشر الوعي الصحي بالمدرسة والبلدة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10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-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يكتسب بعض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  <a:ea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مهارات القرن 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21</a:t>
            </a: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ومنها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 التخطيط / القدرة على البحث والتعلم الذاتى / مهارة حل المشكلات /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gency FB"/>
              </a:rPr>
              <a:t>  تنمية القدرة على التفكير المنطقى والتوصل إلى الاستنتاجات الموضوعية / تنمية روح العمل الجماعى والمشارك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42920" y="-27000"/>
            <a:ext cx="65534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Verdana"/>
              </a:rPr>
              <a:t>الاهداف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6:34:07Z</dcterms:created>
  <dc:creator>User</dc:creator>
  <dc:description/>
  <dc:language>en-US</dc:language>
  <cp:lastModifiedBy>lolo</cp:lastModifiedBy>
  <dcterms:modified xsi:type="dcterms:W3CDTF">2007-11-30T15:11:32Z</dcterms:modified>
  <cp:revision>43</cp:revision>
  <dc:subject/>
  <dc:title>الحيوانات الفقارية</dc:title>
</cp:coreProperties>
</file>